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C3F3-150F-4D14-8F45-82FA42D75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3A34-D75A-4D46-AE4B-9FA9E7F25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EE15-1124-4522-9A73-EE0A8AB97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AF12-F2F2-4FC6-B2AD-D5048FC10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CDA0-37D9-402C-9EA2-4D2AC987D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2B8F-B191-47DC-903C-71259A6F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D98E-9748-4355-951C-7D21D12F5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6932-C4B4-42AA-9122-ECD664856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DEDD-21D4-4E01-A887-C2891417B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3F1B-F5D5-49AE-A168-2B556E35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2760-663A-4C7E-BEEB-A9D1B564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344B-9B2D-4776-9CEB-0C977E07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53DAC-02D3-45A9-A39C-476445A9F0C4}" type="slidenum">
              <a:rPr b="0" lang="en-I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Event 2 Pres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9T15:17:45Z</dcterms:created>
  <dc:creator>IBEC</dc:creator>
  <dc:description/>
  <dc:language>en-US</dc:language>
  <cp:lastModifiedBy>IBEC</cp:lastModifiedBy>
  <dcterms:modified xsi:type="dcterms:W3CDTF">2009-07-09T15:18:29Z</dcterms:modified>
  <cp:revision>2</cp:revision>
  <dc:subject/>
  <dc:title>Event 1 Presentation</dc:title>
</cp:coreProperties>
</file>