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493-0F21-4785-9A4C-10DD08CB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BD3-B23B-4101-8E26-2F5F9B12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E84-B6BE-41C9-B0A3-000D5EA6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C08-C6B2-4C54-965D-9DCCF966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F7E-9515-4F73-BB5C-D6504801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4D7-AB02-465D-932D-5C75C6B0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106-3EC3-44F9-BE19-A45AB46D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539-65D1-454F-86CD-D2FD5E61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3A7-95B2-4929-85F7-A09BBF56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1A2-EFB8-43A7-8C80-129BFCD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034-ABC5-43C4-B1D9-BCFEBA0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6BE-91D2-4CDA-A1BB-BB38E6B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122-D14B-4413-8C24-7706F1169448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Event 1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5:17:45Z</dcterms:created>
  <dc:creator>IBEC</dc:creator>
  <dc:description/>
  <dc:language>en-US</dc:language>
  <cp:lastModifiedBy>Roseline Carton</cp:lastModifiedBy>
  <dcterms:modified xsi:type="dcterms:W3CDTF">2017-02-27T07:38:56Z</dcterms:modified>
  <cp:revision>3</cp:revision>
  <dc:subject/>
  <dc:title>Event 1 Presentation</dc:title>
</cp:coreProperties>
</file>