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317-6F01-430F-9102-5718BB99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906-24E9-4D2B-B0BF-BF974277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A6F-5E40-439C-A218-21CE7A39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5AC-7604-40F0-9D4D-D5C13FA5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1E7-2FCC-4E4B-B7E7-5CB611E0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F70-022E-4A1E-9FA4-4FDCEE5A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790-09EF-462B-8189-766AB6D7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62E-8A36-4046-A347-6925EF2B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D37-74BD-4E56-9A1E-6A1028A3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04C-D107-4E75-A473-C1091DDB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C21-C6F5-4D96-B6DE-2AA288A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DC6-D389-4D65-9EFE-FFB1598D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452B-576F-4BBE-A520-787B81177C8C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Event 1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5:17:45Z</dcterms:created>
  <dc:creator>IBEC</dc:creator>
  <dc:description/>
  <dc:language>en-US</dc:language>
  <cp:lastModifiedBy>Roseline Carton</cp:lastModifiedBy>
  <dcterms:modified xsi:type="dcterms:W3CDTF">2017-02-27T07:38:56Z</dcterms:modified>
  <cp:revision>3</cp:revision>
  <dc:subject/>
  <dc:title>Event 1 Presentation</dc:title>
</cp:coreProperties>
</file>