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201-1630-45AD-AB09-9E753B99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0F6-208C-482D-8992-90A94F87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840-B99B-410C-8875-8EF1DB9F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FAD-C546-42AC-A255-6E7B3994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CB2-4E0B-4016-A9E6-8BDAF51F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A4E-4139-4F7F-8424-CFA1E634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DCB-C0F6-4C96-AD9F-21A7860E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73D-AF90-4777-820F-3A99C07B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F816-E562-45C9-B5E4-44E568F2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2E5-1C96-4415-BF93-E3AFD6CC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02B-D80A-4828-9F4C-524A9EAD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FB3-A7C1-422C-8D4A-156E4B2C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98E2-E37C-4C2D-BE44-7F6CC9182F77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Event 2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5:17:45Z</dcterms:created>
  <dc:creator>IBEC</dc:creator>
  <dc:description/>
  <dc:language>en-US</dc:language>
  <cp:lastModifiedBy>IBEC</cp:lastModifiedBy>
  <dcterms:modified xsi:type="dcterms:W3CDTF">2009-07-09T15:18:29Z</dcterms:modified>
  <cp:revision>2</cp:revision>
  <dc:subject/>
  <dc:title>Event 1 Presentation</dc:title>
</cp:coreProperties>
</file>