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C1C-FD56-4BE5-8DD9-99C3F8F7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4ED-2E56-443C-A852-79A3B3B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0C0-59EA-499E-9C2D-F2808F73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2ED-297D-46F4-94D0-8E8E3861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1F8-C81C-4684-8DCC-E7BC518D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1B9-F0D6-4492-A625-DD110CB0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1C2-B311-4801-A383-73862E6B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FD0-3CB3-401F-BF8A-DD461FD7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8B5-CF91-41C8-982D-3A19CE98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3CD-80B1-4292-B3C4-1D805B5F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9E9-1A38-45B4-B234-DDF3BC33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EBE-1479-4733-940C-D7D2A454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474F-7AD6-414F-ABEE-029AF91D619E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Event 2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5:17:45Z</dcterms:created>
  <dc:creator>IBEC</dc:creator>
  <dc:description/>
  <dc:language>en-US</dc:language>
  <cp:lastModifiedBy>IBEC</cp:lastModifiedBy>
  <dcterms:modified xsi:type="dcterms:W3CDTF">2009-07-09T15:18:29Z</dcterms:modified>
  <cp:revision>2</cp:revision>
  <dc:subject/>
  <dc:title>Event 1 Presentation</dc:title>
</cp:coreProperties>
</file>