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A47-365A-4C0D-9D76-D04B30F1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70A-1362-41AD-B5C0-EEA07BB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4AB-3745-4EDD-9670-9934DA6F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F6E-9298-436B-960B-3622EC72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2F8-7A29-470B-B822-BE553BA6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155-4AD0-41B0-B567-E61C38A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ADC-DE06-48B1-811C-60B86F9A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EF0-B548-4095-9F79-FEEBECB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7706-F8D9-47E0-A5D5-3AEE8142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3A2-AE60-42E7-AA47-37BB122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B50-0946-4F04-B1A1-7286E1F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2DC-AC82-4ED8-BB2C-38DD7F5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2FDB-704D-41A0-B768-32146AB56D6F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1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Roseline Carton</cp:lastModifiedBy>
  <dcterms:modified xsi:type="dcterms:W3CDTF">2017-02-27T07:38:56Z</dcterms:modified>
  <cp:revision>3</cp:revision>
  <dc:subject/>
  <dc:title>Event 1 Presentation</dc:title>
</cp:coreProperties>
</file>