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17F-2DEE-4259-B012-C87DB467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8B3-0E44-49A2-8D28-BA7F953D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262-6A35-4C6A-8571-F36DAC1C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CF9-3612-40D0-9DE3-010EA263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EE5-D681-4800-87FC-C9EB258A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63B-564F-4B5C-A69B-B03A990D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364-36EF-40E1-8E2B-D339E18F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847-D9B5-4890-B258-A7FDD8E5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DA9-BE44-4ABF-8D8C-889A33A9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E7F-B93A-44F5-89B8-EC9B088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248-4F3B-4C38-A3F1-9E2A03D1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82A-FEBE-46BD-841E-999BE5F8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068C-97BC-4F3A-ADF5-814A9EFB14C8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Event 1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5:17:45Z</dcterms:created>
  <dc:creator>IBEC</dc:creator>
  <dc:description/>
  <dc:language>en-US</dc:language>
  <cp:lastModifiedBy>Roseline Carton</cp:lastModifiedBy>
  <dcterms:modified xsi:type="dcterms:W3CDTF">2017-02-27T07:38:56Z</dcterms:modified>
  <cp:revision>3</cp:revision>
  <dc:subject/>
  <dc:title>Event 1 Presentation</dc:title>
</cp:coreProperties>
</file>